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2.wmf" ContentType="image/x-wmf"/>
  <Override PartName="/ppt/media/image7.png" ContentType="image/png"/>
  <Override PartName="/ppt/media/image11.wmf" ContentType="image/x-wmf"/>
  <Override PartName="/ppt/media/image10.wmf" ContentType="image/x-wmf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2A85-D48F-4D26-AF1A-41F39DBEF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9542-0C1F-4DBD-9D05-907D5CBBE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3616D2-AC9A-49C6-B287-31A519278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9C077A-C33D-4790-B90F-7571E514E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E44C59-38FC-4D65-BDCF-1B9648720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7332FE-7927-49D7-9AF7-1AD226A5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6BA093-B963-4367-9457-001F0FB3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B4C233-66E0-481E-BA1E-B599F785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129E5C-2FA8-4EC0-ABAC-CE0EADC28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9F6D3F-ABB4-40AD-870B-9B6F321D0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F00C09-8907-416F-BE9A-D92B8D363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00C36C-400C-4C79-A21E-C4B94DC8B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7230-0D03-4118-BAAF-35B50D37E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452EA7-1AE9-4BBD-ADC7-9C7D4DF00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82A2D5-D083-4461-A052-73DB61512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921F6B-3BEA-47C9-97D5-FB367C81E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382843-9AEB-48B5-8755-63DAAD076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7C1D75-E450-482E-A47B-790724B9C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6DB671-80D3-46CE-8236-BF6F66D0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93876F-1F56-47B4-BE96-E829E3BF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2978F4-F5A6-4ACB-A3B8-23718382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C0AFCE-99DD-4BD0-8059-48E825D60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A279A4-E296-46E0-A652-2AFA7030F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1E4E-FA09-4A62-93E1-BEB5698A9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962D2A-0F6F-4255-ABDA-7208F6E82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32AFBC-113C-45CB-8621-87D5C5581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A16D81-7EEE-48EC-8977-6D6EB0DDC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28B252-9E61-4738-9D52-73532A8D1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5635FC-12D4-4D1B-8306-0729AF93A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17DFE7-D0E6-4361-9520-B647A6D07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C46FB7-62D7-4504-B74E-A7FDC50ED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8D5A91-D8BD-4669-BA74-8DFB1EF8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A93955-8AEB-4D61-B0F3-F7DA459B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3F64F1-7B01-4865-A698-4C008A9F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89950-CEC6-4E64-92D1-819F2F872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455C63-AFCC-44FB-8E62-76661BC83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0511BB-66EC-43FC-889D-B2CFC9D96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8D6912-3B0C-4BCC-BA5C-5EB47A790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0CBC1B-AF26-4A81-AC18-C38CB0F4A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34FF1A-8E90-4F57-AB3E-06C84EFB7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A40AB7-1F8A-41C1-9EF1-B33704A2B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10DDE3-AC14-4C96-904C-84F850599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4AD9D4-1781-4A37-82D8-482AF8351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8BB54E-4B3A-4BAE-94C1-4CF87F5BD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E033EB-09E6-4A9A-AF3D-70CF7F38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4749B-A4DB-4404-B5C5-A642DB7AF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CFD4BB-FC13-4B03-916E-4A51B254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06FA39-791C-451B-B802-5607BA42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268F60-2A5B-41D7-A583-BBCB9300F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A410A3-C707-41DB-A78A-B4C0784CC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3D818A-A1D0-4698-BA73-938AEF48B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AB1A13-F1CF-4660-B26A-0E4910574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F05CB5-8A54-4B36-8859-D7082B298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3D2916-D09F-4E42-801A-83EB94738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9FF0A4-399C-4781-8CC4-32D9CE583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861583-67B6-4371-A234-7FA6C833E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2F45D-0EA3-40DA-AE1A-426F9AA7F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585F9A-E501-4386-BD51-4CE2812DC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957120-6260-46A8-B157-5A5AF63B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CF8B4B-D499-4FA0-944A-487F47DC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ABAF3B-7D25-41BF-BD72-9D1957B4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3DD36A-0AB3-4E80-837E-528155EDF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8F6BA5-BDF9-4C58-BD6D-19D4ADB65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0950BF-C0B3-4647-AB87-DC6C1E462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E311B1-D282-49F1-8B03-A71A5F289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072746-CCF2-4345-9F6D-9E4837A1F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100238-4E54-4A01-BDA8-4B6C1BB1C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4F0CF-4B18-4E2F-983B-EA91EDA67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10BAF4-F953-4B1A-835F-784469EF9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5BCA3A-5E03-4611-822A-A7DD68AFE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6CDCA9-2FC4-4821-B423-C9B185D0D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A25890-42C9-4C95-A90E-44C85B23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496FDF-FB1D-4A50-8B06-2380F54A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E17557-54A5-410C-A0DC-6628E9DF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10BC22-10A5-48B9-B29E-993299E06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F251EB-70E9-47A1-BFED-ABB510642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B5C60E-D68F-4BE7-BADB-A9308A941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5FC5E5-6B5E-415F-B274-AB99FE956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58242-3B55-4A88-9C13-D23AB334D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20CCBC-B8C9-41C3-B65F-B83C25E12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E784C1-F721-4EC0-BA14-45A285BA6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851E27-10FB-41AF-8C27-91E18A3EB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D80988-EABF-445E-9C6D-B8498860E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611A19-BA69-4374-921C-ACF448C97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B6CB65-B740-4074-81EE-8389319F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BB4064-26D2-4B4C-A065-5802C38D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8D0D76-8FAD-4BD9-AAF2-12575EE6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BE7560-F502-4012-A6BC-6D11C2CBB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E3B7EC-00DB-4BCD-A355-99F0C02E9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B478E-2FCE-45CD-B4A2-E32FC6116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A10B0B-4F0F-46C4-AE82-9BDA3BAFD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758AAC-24D8-4ADE-B062-F9D16FE9D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689893-9615-401F-882E-A8B0166EE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54FBCA-2A5A-4A10-A944-4ABCC711A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34C958-48E2-4C89-BDF4-37CEC38D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B40240-9DC8-4C69-B96A-65400FF32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E6891F-61AD-4758-8EF9-C13FBAC7A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9E7E9C-BF21-4F6D-9F8D-61DB03C9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05D1A3-9CDB-472F-88D0-7D2C1CB8E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62A44F-B04F-49BB-A92A-2B2CDC03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CD7FF-586F-4C1D-98BE-6A23903B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BA7312-6C8E-4984-BE91-8C46865C8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F4FDF9-BFCF-4037-8CD7-416D828D7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992078-B706-4F40-A6C1-6C0FACEA8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359196-A32E-43AE-99B9-B20C75553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F6CE71-D797-465B-B4A1-3E0BBCE27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3B7606-3493-4E43-8FFE-8A6CA4B8D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DB0D55-DB58-4578-B804-CC55076FD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BFC883-868B-4BE5-B798-93E2561A6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C28BB8-7A32-43F9-9D41-C703ED66D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D94DC8-5002-4CED-8A6F-C54523DF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5F78-8162-439D-837D-00FBCEAB0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CBE56-FDF3-441B-8BFA-D0D27E78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8F2352-71D1-49D1-BD50-5DFD6C65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65FE85-2F1F-4DDF-BD08-A6444548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244166-6887-459F-BC19-3D9421AA9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4EBBD4-457F-457D-B99E-9BD023B0B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2C95B8-5A12-456E-A286-65DCC9718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44EE3-FF6B-4E38-BBC1-79CD5422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163B3-D50B-46E8-A69E-21B31AC02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E55CF-D4B3-45C8-8930-1641B9DEC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E9BBB-3EDF-4341-AC23-5E23178C4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9935D-94B8-4583-9321-484375E65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112EE-049C-4E88-ADEF-9712C38F7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BEBBF-0E0F-4CD6-8C14-336BEF2BD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F3605-C25D-4B01-B4C5-06B29444D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6142B-11D5-4E07-B2AC-EE7A90AB6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AE76-24B8-4E68-A3DB-4B882E622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F0A14-F39B-4F13-8C42-CB69D7F84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F994A-4D37-441E-AD81-21AD528F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07D99-7442-4709-933D-32FBFEBF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F2A04-9845-40E9-A9C2-517AF11E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C300F-94C2-4180-9C6F-240D8F1E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51373-3F21-42B4-90A5-CC86905B5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5D3CF-2D16-4C13-831F-C778BD985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F0F17-518A-43A8-905F-E43C6AAFA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FEAF5-96F6-4420-9431-E200898F0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5F170-F9D6-4345-89C3-A2F05BD42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17BC-FC14-4138-BBD4-5E9D54DC8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BDFC3-1DDB-4CFF-B1A2-258FED3BC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3D381-74C8-4AFC-9593-70FEA6952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181E9-FC41-40AD-96D9-C3F7F3130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C41CF-3D12-4483-A0BC-15095F2C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D5A26-BCE1-44CD-9B09-79D93EB2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5D144-5BF3-4B55-B10F-4C2F1789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CD614-6149-4A7B-9F40-8A5153FC2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F8B08-1D9F-44A1-96CF-F7BA552E6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605B9-3991-46B5-BE3C-B520CFECD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D867C-842F-4228-A315-25ED2FEBA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63AE-8632-4F55-90B8-3959F2C2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06045-CAC1-431F-A784-F3FEC62EB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647A6-D0D4-484B-BB72-D04A1C2F8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050F0-96A4-4AF6-8048-8280BB8EE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48843-9573-43F0-B454-F3C84ADDC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AA2BE-AB26-4A52-BA42-0AE9452C8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A65A1-85AF-4520-BE39-6293C1AE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EB466-29D9-4698-9E57-0CE7ED25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6CCCE-71B1-43B1-825E-CFAB1AB1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2F82D-4A3C-4414-85D7-BD0811B43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34EED-DEB8-42BF-8110-550299667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9B0F-911A-44D6-959C-C256B2B1D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0DF89-A700-4E75-B415-C3F1CE6E6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CA934-F1E9-4381-897D-5215CA0DD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A9145-F033-4E2F-8A8A-DBB6DB77A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9C75E-77F5-4216-8BCE-DCCFD770F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2B6E44-E7F8-4E5A-B2AD-53B69F3E5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E31D5-B2E8-4A9E-B5C6-1C4893388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679D7-80E3-4B4C-AB4D-823A6029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E2294-6DC9-47E1-B249-BE8B01D8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A99CA-D6A5-4DCD-8CD2-ADF17663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C8150-CF73-49B5-88DD-A6D3E266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CA82-7AC9-42E2-BF81-3C322478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A0494-F57C-4EC6-86D4-DB12862AA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3F5E2-1520-43A9-8BB5-72A9B117E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55CA4-051E-4A33-9C0A-9AFD97D76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4529B-488E-465C-9746-636A52389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4472CA-5B2F-4279-9638-FA98778C5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028977-1F61-43E5-9A44-C762FB84C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E3174-1A3F-4A7A-9DB2-E3C57CF94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F1C91A-AFBF-43F5-B77E-7E71A233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E235E-B7BA-492B-A684-49880D07F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F15D1-FF6C-434F-8CA6-1D2A3985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7301-ACFE-4F55-A83D-ACC6843C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132010-B5E1-48D6-A9EE-487A314D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B0296-FC78-445E-B1F2-829CD7A1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E2B0B-B085-4CB8-B6EE-7CD89A16A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EB8FF-7667-4E01-BB7B-7B40CC011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4566E-9AD3-4E14-815D-39338C7CC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D1D43A-4D31-4701-A373-E3AB23BA1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B403BA-070B-4FA8-B505-731607CA4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64E03-8409-4709-B272-730997809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E27297-11FF-4AF5-8652-41AF424D2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9FF72A-06D9-4328-A6E5-D35AB2596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85BF-37BD-4EE9-A5C4-E956AE44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4709CD-AABC-4877-A2EE-6D2FF71DB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83E371-B710-4496-BFFA-E7B3AECA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764E2E-5C27-44FB-8C59-55109AD6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43FE41-7EB3-4ACA-B9F9-F2B091AE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2805E8-2C30-4C9D-99F5-D49A6DF92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A7175E-8644-4150-95D6-A9694061B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62F9B5-FD65-4A1C-9C6C-143E31B32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48493E-7A43-4C91-916B-3784E774B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22E591-5E05-4364-91E0-DD2AA1A5A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1268EB-E2FD-40E5-AF0B-DCA477C55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247da9">
                  <a:alpha val="45098"/>
                </a:srgbClr>
              </a:gs>
              <a:gs pos="100000">
                <a:srgbClr val="18a3e9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1f7faf">
                  <a:alpha val="45098"/>
                </a:srgbClr>
              </a:gs>
              <a:gs pos="100000">
                <a:srgbClr val="209bd8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7674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767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44a7d8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cf72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44a7d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44a7d8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6624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66249"/>
                </a:solidFill>
                <a:latin typeface="Times New Roman"/>
              </a:rPr>
              <a:t>3/29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6624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12FF1-59F0-4B39-8A8D-741DB22EC555}" type="slidenum">
              <a:rPr b="0" lang="en-US" sz="1200" spc="-1" strike="noStrike">
                <a:solidFill>
                  <a:srgbClr val="066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6" descr="logo_rc_rev_mar09.jpg"/>
          <p:cNvPicPr/>
          <p:nvPr/>
        </p:nvPicPr>
        <p:blipFill>
          <a:blip r:embed="rId3"/>
          <a:stretch/>
        </p:blipFill>
        <p:spPr>
          <a:xfrm>
            <a:off x="3124080" y="6305400"/>
            <a:ext cx="457200" cy="42552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3/29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9"/>
          </p:nvPr>
        </p:nvSpPr>
        <p:spPr>
          <a:xfrm>
            <a:off x="3581280" y="6324120"/>
            <a:ext cx="2438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F4B52-8774-4DB7-959D-C36B99B93B1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6" descr="logo_rc_rev_mar09.jpg"/>
          <p:cNvPicPr/>
          <p:nvPr/>
        </p:nvPicPr>
        <p:blipFill>
          <a:blip r:embed="rId3"/>
          <a:stretch/>
        </p:blipFill>
        <p:spPr>
          <a:xfrm>
            <a:off x="3124080" y="6305400"/>
            <a:ext cx="457200" cy="42552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3/29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32"/>
          </p:nvPr>
        </p:nvSpPr>
        <p:spPr>
          <a:xfrm>
            <a:off x="3581280" y="6324120"/>
            <a:ext cx="2438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DA50C-00FF-4DCE-89EE-83F8DF1A842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6" descr="logo_rc_rev_mar09.jpg"/>
          <p:cNvPicPr/>
          <p:nvPr/>
        </p:nvPicPr>
        <p:blipFill>
          <a:blip r:embed="rId3"/>
          <a:stretch/>
        </p:blipFill>
        <p:spPr>
          <a:xfrm>
            <a:off x="3124080" y="6305400"/>
            <a:ext cx="457200" cy="425520"/>
          </a:xfrm>
          <a:prstGeom prst="rect">
            <a:avLst/>
          </a:prstGeom>
          <a:ln w="0">
            <a:noFill/>
          </a:ln>
        </p:spPr>
      </p:pic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3/29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5"/>
          </p:nvPr>
        </p:nvSpPr>
        <p:spPr>
          <a:xfrm>
            <a:off x="3581280" y="6324120"/>
            <a:ext cx="2438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C1563-DB34-44B8-83A7-905AF277C07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6" descr="logo_rc_rev_mar09.jpg"/>
          <p:cNvPicPr/>
          <p:nvPr/>
        </p:nvPicPr>
        <p:blipFill>
          <a:blip r:embed="rId3"/>
          <a:stretch/>
        </p:blipFill>
        <p:spPr>
          <a:xfrm>
            <a:off x="3124080" y="6305400"/>
            <a:ext cx="457200" cy="425520"/>
          </a:xfrm>
          <a:prstGeom prst="rect">
            <a:avLst/>
          </a:prstGeom>
          <a:ln w="0">
            <a:noFill/>
          </a:ln>
        </p:spPr>
      </p:pic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3/29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8"/>
          </p:nvPr>
        </p:nvSpPr>
        <p:spPr>
          <a:xfrm>
            <a:off x="3581280" y="6324120"/>
            <a:ext cx="2438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8C5A3-7925-432F-8CE1-66B45C32943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6" descr="logo_rc_rev_mar09.jpg"/>
          <p:cNvPicPr/>
          <p:nvPr/>
        </p:nvPicPr>
        <p:blipFill>
          <a:blip r:embed="rId3"/>
          <a:stretch/>
        </p:blipFill>
        <p:spPr>
          <a:xfrm>
            <a:off x="3124080" y="6305400"/>
            <a:ext cx="457200" cy="42552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3/29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ftr" idx="41"/>
          </p:nvPr>
        </p:nvSpPr>
        <p:spPr>
          <a:xfrm>
            <a:off x="3581280" y="6324120"/>
            <a:ext cx="2438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9A225-8031-494F-83D1-B689EB4435B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6" descr="logo_rc_rev_mar09.jpg"/>
          <p:cNvPicPr/>
          <p:nvPr/>
        </p:nvPicPr>
        <p:blipFill>
          <a:blip r:embed="rId3"/>
          <a:stretch/>
        </p:blipFill>
        <p:spPr>
          <a:xfrm>
            <a:off x="3124080" y="6305400"/>
            <a:ext cx="457200" cy="425520"/>
          </a:xfrm>
          <a:prstGeom prst="rect">
            <a:avLst/>
          </a:prstGeom>
          <a:ln w="0">
            <a:noFill/>
          </a:ln>
        </p:spPr>
      </p:pic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3/29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4"/>
          </p:nvPr>
        </p:nvSpPr>
        <p:spPr>
          <a:xfrm>
            <a:off x="3581280" y="6324120"/>
            <a:ext cx="2438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7D679-C588-42C5-932C-063F8D3C29C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Picture 6" descr="logo_rc_rev_mar09.jpg"/>
          <p:cNvPicPr/>
          <p:nvPr/>
        </p:nvPicPr>
        <p:blipFill>
          <a:blip r:embed="rId3"/>
          <a:stretch/>
        </p:blipFill>
        <p:spPr>
          <a:xfrm>
            <a:off x="3124080" y="6305400"/>
            <a:ext cx="457200" cy="425520"/>
          </a:xfrm>
          <a:prstGeom prst="rect">
            <a:avLst/>
          </a:prstGeom>
          <a:ln w="0">
            <a:noFill/>
          </a:ln>
        </p:spPr>
      </p:pic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3/29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47"/>
          </p:nvPr>
        </p:nvSpPr>
        <p:spPr>
          <a:xfrm>
            <a:off x="3581280" y="6324120"/>
            <a:ext cx="2438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EE7F9-06A3-4A8A-86DF-F5B7181C426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Picture 6" descr="logo_rc_rev_mar09.jpg"/>
          <p:cNvPicPr/>
          <p:nvPr/>
        </p:nvPicPr>
        <p:blipFill>
          <a:blip r:embed="rId3"/>
          <a:stretch/>
        </p:blipFill>
        <p:spPr>
          <a:xfrm>
            <a:off x="3124080" y="6305400"/>
            <a:ext cx="457200" cy="425520"/>
          </a:xfrm>
          <a:prstGeom prst="rect">
            <a:avLst/>
          </a:prstGeom>
          <a:ln w="0">
            <a:noFill/>
          </a:ln>
        </p:spPr>
      </p:pic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3/29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50"/>
          </p:nvPr>
        </p:nvSpPr>
        <p:spPr>
          <a:xfrm>
            <a:off x="3581280" y="6324120"/>
            <a:ext cx="2438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189F8-1D27-4774-910E-73B23FB85C2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/29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3A663-D172-4D82-91B0-6C1E5DCB0E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3/29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581280" y="6324120"/>
            <a:ext cx="2438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17E4E-73C4-4AAD-B149-9453DC198CD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6" descr="logo_rc_rev_mar09.jpg"/>
          <p:cNvPicPr/>
          <p:nvPr/>
        </p:nvPicPr>
        <p:blipFill>
          <a:blip r:embed="rId3"/>
          <a:stretch/>
        </p:blipFill>
        <p:spPr>
          <a:xfrm>
            <a:off x="3124080" y="6305400"/>
            <a:ext cx="457200" cy="425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247da9">
                  <a:alpha val="45098"/>
                </a:srgbClr>
              </a:gs>
              <a:gs pos="100000">
                <a:srgbClr val="18a3e9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1f7faf">
                  <a:alpha val="45098"/>
                </a:srgbClr>
              </a:gs>
              <a:gs pos="100000">
                <a:srgbClr val="209bd8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3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3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37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39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40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44a7d8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cf72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44a7d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44a7d8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3/29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3D230-B4A5-4224-85B7-76D117D8906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247da9">
                  <a:alpha val="45098"/>
                </a:srgbClr>
              </a:gs>
              <a:gs pos="100000">
                <a:srgbClr val="18a3e9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1f7faf">
                  <a:alpha val="45098"/>
                </a:srgbClr>
              </a:gs>
              <a:gs pos="100000">
                <a:srgbClr val="209bd8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8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8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87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89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90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1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44a7d8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cf72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44a7d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44a7d8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3/29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B3C47-64FB-44D4-B5CD-7FE07577EBB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247da9">
                  <a:alpha val="45098"/>
                </a:srgbClr>
              </a:gs>
              <a:gs pos="100000">
                <a:srgbClr val="18a3e9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1f7faf">
                  <a:alpha val="45098"/>
                </a:srgbClr>
              </a:gs>
              <a:gs pos="100000">
                <a:srgbClr val="209bd8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7674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7674d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44a7d8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cf72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44a7d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44a7d8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6624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66249"/>
                </a:solidFill>
                <a:latin typeface="Times New Roman"/>
              </a:rPr>
              <a:t>3/29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6624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85734-F386-4F3F-904E-49662B6A9BB4}" type="slidenum">
              <a:rPr b="0" lang="en-US" sz="1200" spc="-1" strike="noStrike">
                <a:solidFill>
                  <a:srgbClr val="066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6" descr="logo_rc_rev_mar09.jpg"/>
          <p:cNvPicPr/>
          <p:nvPr/>
        </p:nvPicPr>
        <p:blipFill>
          <a:blip r:embed="rId3"/>
          <a:stretch/>
        </p:blipFill>
        <p:spPr>
          <a:xfrm>
            <a:off x="3124080" y="6305400"/>
            <a:ext cx="457200" cy="42552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3/29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20"/>
          </p:nvPr>
        </p:nvSpPr>
        <p:spPr>
          <a:xfrm>
            <a:off x="3581280" y="6324120"/>
            <a:ext cx="2438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3A0EF-5D12-47DA-8720-24DE9B474ED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6" descr="logo_rc_rev_mar09.jpg"/>
          <p:cNvPicPr/>
          <p:nvPr/>
        </p:nvPicPr>
        <p:blipFill>
          <a:blip r:embed="rId3"/>
          <a:stretch/>
        </p:blipFill>
        <p:spPr>
          <a:xfrm>
            <a:off x="3124080" y="6305400"/>
            <a:ext cx="457200" cy="42552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3/29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23"/>
          </p:nvPr>
        </p:nvSpPr>
        <p:spPr>
          <a:xfrm>
            <a:off x="3581280" y="6324120"/>
            <a:ext cx="2438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E0A84-0DA4-4BD4-91CC-9485A317ECE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6" descr="logo_rc_rev_mar09.jpg"/>
          <p:cNvPicPr/>
          <p:nvPr/>
        </p:nvPicPr>
        <p:blipFill>
          <a:blip r:embed="rId3"/>
          <a:stretch/>
        </p:blipFill>
        <p:spPr>
          <a:xfrm>
            <a:off x="3124080" y="6305400"/>
            <a:ext cx="457200" cy="42552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3/29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6"/>
          </p:nvPr>
        </p:nvSpPr>
        <p:spPr>
          <a:xfrm>
            <a:off x="3581280" y="6324120"/>
            <a:ext cx="2438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F06B8-11C9-4FEB-8946-AEF49537DC9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0" name="Title 1" descr=""/>
          <p:cNvPicPr/>
          <p:nvPr/>
        </p:nvPicPr>
        <p:blipFill>
          <a:blip r:embed="rId2"/>
          <a:stretch/>
        </p:blipFill>
        <p:spPr>
          <a:xfrm>
            <a:off x="530280" y="907920"/>
            <a:ext cx="8010360" cy="4969080"/>
          </a:xfrm>
          <a:prstGeom prst="rect">
            <a:avLst/>
          </a:prstGeom>
          <a:ln w="0">
            <a:noFill/>
          </a:ln>
        </p:spPr>
      </p:pic>
      <p:sp>
        <p:nvSpPr>
          <p:cNvPr id="741" name="TextBox 3"/>
          <p:cNvSpPr/>
          <p:nvPr/>
        </p:nvSpPr>
        <p:spPr>
          <a:xfrm>
            <a:off x="3733920" y="62485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eea7"/>
                </a:solidFill>
                <a:latin typeface="Times New Roman"/>
                <a:ea typeface="Times New Roman"/>
              </a:rPr>
              <a:t>Recursive Creativity  LLC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742" name="Picture 4" descr="RecursiveCreativityFavIcon2.jpg"/>
          <p:cNvPicPr/>
          <p:nvPr/>
        </p:nvPicPr>
        <p:blipFill>
          <a:blip r:embed="rId3"/>
          <a:stretch/>
        </p:blipFill>
        <p:spPr>
          <a:xfrm>
            <a:off x="8020080" y="6248520"/>
            <a:ext cx="514440" cy="4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TextBox 3"/>
          <p:cNvSpPr/>
          <p:nvPr/>
        </p:nvSpPr>
        <p:spPr>
          <a:xfrm>
            <a:off x="3733920" y="62485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eea7"/>
                </a:solidFill>
                <a:latin typeface="Times New Roman"/>
                <a:ea typeface="Times New Roman"/>
              </a:rPr>
              <a:t>Recursive Creativity  LLC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744" name="Picture 6" descr="RecursiveCreativityFavIcon2.jpg"/>
          <p:cNvPicPr/>
          <p:nvPr/>
        </p:nvPicPr>
        <p:blipFill>
          <a:blip r:embed="rId2"/>
          <a:stretch/>
        </p:blipFill>
        <p:spPr>
          <a:xfrm>
            <a:off x="8020080" y="6248520"/>
            <a:ext cx="514440" cy="480960"/>
          </a:xfrm>
          <a:prstGeom prst="rect">
            <a:avLst/>
          </a:prstGeom>
          <a:ln w="0">
            <a:noFill/>
          </a:ln>
        </p:spPr>
      </p:pic>
      <p:sp>
        <p:nvSpPr>
          <p:cNvPr id="745" name="TextBox 4"/>
          <p:cNvSpPr/>
          <p:nvPr/>
        </p:nvSpPr>
        <p:spPr>
          <a:xfrm>
            <a:off x="380880" y="152280"/>
            <a:ext cx="807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Customer Summary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746" name="" descr=""/>
          <p:cNvPicPr/>
          <p:nvPr/>
        </p:nvPicPr>
        <p:blipFill>
          <a:blip r:embed="rId3"/>
          <a:stretch/>
        </p:blipFill>
        <p:spPr>
          <a:xfrm>
            <a:off x="299880" y="1638360"/>
            <a:ext cx="85442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TextBox 3"/>
          <p:cNvSpPr/>
          <p:nvPr/>
        </p:nvSpPr>
        <p:spPr>
          <a:xfrm>
            <a:off x="3733920" y="62485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eea7"/>
                </a:solidFill>
                <a:latin typeface="Times New Roman"/>
                <a:ea typeface="Times New Roman"/>
              </a:rPr>
              <a:t>Recursive Creativity  LLC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748" name="Picture 6" descr="RecursiveCreativityFavIcon2.jpg"/>
          <p:cNvPicPr/>
          <p:nvPr/>
        </p:nvPicPr>
        <p:blipFill>
          <a:blip r:embed="rId2"/>
          <a:stretch/>
        </p:blipFill>
        <p:spPr>
          <a:xfrm>
            <a:off x="8020080" y="6248520"/>
            <a:ext cx="514440" cy="480960"/>
          </a:xfrm>
          <a:prstGeom prst="rect">
            <a:avLst/>
          </a:prstGeom>
          <a:ln w="0">
            <a:noFill/>
          </a:ln>
        </p:spPr>
      </p:pic>
      <p:sp>
        <p:nvSpPr>
          <p:cNvPr id="749" name="TextBox 4"/>
          <p:cNvSpPr/>
          <p:nvPr/>
        </p:nvSpPr>
        <p:spPr>
          <a:xfrm>
            <a:off x="380880" y="152280"/>
            <a:ext cx="807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Monthly Summary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750" name="" descr=""/>
          <p:cNvPicPr/>
          <p:nvPr/>
        </p:nvPicPr>
        <p:blipFill>
          <a:blip r:embed="rId3"/>
          <a:stretch/>
        </p:blipFill>
        <p:spPr>
          <a:xfrm>
            <a:off x="1290600" y="1805040"/>
            <a:ext cx="6562800" cy="3247920"/>
          </a:xfrm>
          <a:prstGeom prst="rect">
            <a:avLst/>
          </a:prstGeom>
          <a:ln w="0">
            <a:noFill/>
          </a:ln>
        </p:spPr>
      </p:pic>
      <p:pic>
        <p:nvPicPr>
          <p:cNvPr id="751" name="" descr=""/>
          <p:cNvPicPr/>
          <p:nvPr/>
        </p:nvPicPr>
        <p:blipFill>
          <a:blip r:embed="rId4"/>
          <a:stretch/>
        </p:blipFill>
        <p:spPr>
          <a:xfrm>
            <a:off x="1295280" y="5334120"/>
            <a:ext cx="652464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9T17:07:54Z</dcterms:created>
  <dc:creator>Michael D. Newby</dc:creator>
  <dc:description/>
  <dc:language>en-US</dc:language>
  <cp:lastModifiedBy>Michael D. Newby</cp:lastModifiedBy>
  <dcterms:modified xsi:type="dcterms:W3CDTF">2009-04-26T02:50:36Z</dcterms:modified>
  <cp:revision>63</cp:revision>
  <dc:subject/>
  <dc:title>fghdsfgh</dc:title>
</cp:coreProperties>
</file>